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FC5EC-B94D-4A0B-8A62-A6A4ED8C9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FF9D5-F4B8-4E67-94EE-8DDF54814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B406C-EA60-450C-A382-7939CCBCF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36067-98B6-44B5-B0F0-12058BDA5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F6689-A003-4ADB-8259-5AF2B820A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B08F8-F57C-46CB-B895-26D8ADB7A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91F95-A198-4A13-B4CB-F38A078DA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7CFB3-5125-4620-BD80-A391AD4B1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3ED6A-2706-435A-AD55-F99D42EC4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3ADF1-9877-4179-A6CF-7BA74AD95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38C62-2075-4C4A-9306-6C9A43165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74CAC-5613-46EC-BCA2-C74215B4C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7DAA0-137A-46EA-BC8A-1812050A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5A19E-538B-455C-BD34-E8D8368E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DD6FE-694D-4A87-8B37-64E22054B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1183E-AD8B-4693-B1C4-C6E0FCAA4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F6C7E-03EE-4DB8-A7CB-FC1DA370D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3BEFA-527B-4320-88F1-FF07833E9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62B06-AF98-454E-8F26-4A89BE3FD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B402B-1A85-426B-8F23-67AA5EE8D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673F0-886B-4E2C-87A9-4CED8F8C0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51C15-6EF1-4E17-AAC6-4B95A2F0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A13E6-96B1-46A7-9CE9-D56E27364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37E52-FBD7-47A8-8DF1-C59D92BB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1A401-5886-4816-BA7A-0EC8B3FE4604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A9050-EAF0-45EF-9874-3F12428B83B5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226440"/>
            <a:ext cx="95774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259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780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Грешниче смутен и беден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Бог те мило днес зове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 те кани - слаб, отруден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Чадо Мое, следвай Ме!"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сичко Той за теб ще стори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о едно, о, грешниче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ой ти шепне и говори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„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О, люби Ме повече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541440" y="529920"/>
            <a:ext cx="100821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2. Плашат ли те греховете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чувстваш ли се ти сломен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Дай си Мене ти ръцете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ъй ще бъдеш най-блажен!" Грешниче, ела веднаг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и Исуса, твоя Спас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якой без да Му налага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даде Той живот за нас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-252360" y="282240"/>
            <a:ext cx="95774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Дали щастие те омае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 мъка цял ден ли си бил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се ти шепне: „Чадо Мое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Мен най ли ой възлюбил?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ози зов и таз покан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чувам о радост, о, Христе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иеми ме, за да стан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еб предаден от сърце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5-15T07:35:02Z</dcterms:modified>
  <cp:revision>194</cp:revision>
  <dc:subject/>
  <dc:title>Slide 1</dc:title>
</cp:coreProperties>
</file>